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647-1AA3-4D5B-853F-71913C67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5BB-B8D1-4B74-83D7-C89CFFFB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F25-548C-4260-88F4-C77E317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E34-007E-4514-9AF4-8877BBB8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D0F8-7C24-4CA4-BB50-15467F1A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0E9-1103-4948-8472-676CF3EC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7C2A-0FA3-4D36-A75A-9F158AA2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C51A-B529-4AE9-A684-B2E62286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9E3C-F885-46CE-99A5-6DB2A77A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27FA-892A-4025-A532-45F5DC57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5402-AE0D-471F-818E-73E32597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63A-BB7B-4FF1-8182-4559D0A8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EBC-58BA-4DB9-8CFB-85066ED0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6EA5-D5D7-4880-BDFA-3A3C7D7E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DA47-F745-47AA-8D70-5EA9060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1EC7-E8FC-4324-AA9F-E6B49F08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CCE3-6563-47A3-84F3-9789E998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486-59DB-4FDB-AC46-BD6F2361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518-AA9A-49C1-8B6D-7627F7C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9F8-0D7D-44FA-8BDA-42DB03E2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DEE-21DD-47BF-888F-FEA5CCB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8E8-6BA0-49D7-BE09-73CC6C79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9EB-ED54-4CD0-ACEA-326E8614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AAA-3896-4A32-B647-9608B491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B7F3-E7BD-47FD-8C25-7C427734A6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F2BE-CC5E-4F44-B5B2-05ABE78673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ooks.google.hu/books?id=29U9GeQQnSUC&amp;dq=%22Who&apos;s+who+in+economics%22&amp;printsec=frontcover&amp;source=bn&amp;hl=hu&amp;ei=a4SoS_vnBM_l-Qboxam9AQ&amp;sa=X&amp;oi=book_result&amp;ct=result&amp;resnum=4&amp;ved=0CBgQ6AEwAw#v=onepage&amp;q=&amp;f=fals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192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11"/>
                </a:solidFill>
                <a:latin typeface="Times New Roman"/>
              </a:rPr>
              <a:t>A LEGFONTOSABB REFERENSZ-MUNKÁK</a:t>
            </a:r>
            <a:endParaRPr b="0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ff66"/>
                </a:solidFill>
                <a:latin typeface="Times New Roman"/>
              </a:rPr>
              <a:t>7. Egyetemes gyűjtőkörű biográfiai összeállítások a közgazdaságtan területén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Közgazdasági Nobel-díjas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11"/>
                </a:solidFill>
                <a:latin typeface="Arial"/>
              </a:rPr>
              <a:t>1. Közgazdasági Nobel-díjasok, 1969-2004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ötet 55 kitüntetett tudós életútját és tudományos munkásságát, eredményeit tartalmaz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11"/>
                </a:solidFill>
                <a:latin typeface="Arial"/>
              </a:rPr>
              <a:t>2. The Nobel Memorial laureates in economic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: An introduction to their careers and main published 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iadvány a közgazdasági Nobel-díjasok életrajzát, tudományos eredményeit és publikációinak jegyzékét foglalja magáb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43240" cy="3333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09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Kortárs életrajzi összeállítá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700" spc="-1" strike="noStrike">
                <a:solidFill>
                  <a:srgbClr val="ffffff"/>
                </a:solidFill>
                <a:latin typeface="Arial"/>
              </a:rPr>
              <a:t>Who's who in economics, online: google boo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7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books.google.hu/books?id=29U9GeQQnSUC&amp;dq=%22Who's+who+in+economics%22&amp;printsec=frontcover&amp;source=bn&amp;hl=hu&amp;ei=a4SoS_vnBM_l-Qboxam9AQ&amp;sa=X&amp;oi=book_result&amp;ct=result&amp;resnum=4&amp;ved=0CBgQ6AEwAw#v=onepage&amp;q=&amp;f=fal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523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Times New Roman"/>
              </a:rPr>
              <a:t>A magyar gazdaságtörténet szintézi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43200" y="1828800"/>
            <a:ext cx="5943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11"/>
                </a:solidFill>
                <a:latin typeface="Arial"/>
              </a:rPr>
              <a:t>Magyar Tudománytár 5. 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11"/>
                </a:solidFill>
                <a:latin typeface="Arial"/>
              </a:rPr>
              <a:t>Gazdasá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magyar gazdaság másfél évszázada: gazdaságtörténet, reformelméletek és gazdaságpolitik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par és mezőgazdasá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frastruktúra és szolgáltatá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KGST-től az Európai Unióig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1905120" cy="2629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7120" y="472680"/>
            <a:ext cx="715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ff66"/>
                </a:solidFill>
                <a:latin typeface="Times New Roman"/>
              </a:rPr>
              <a:t>1. Brémond, Janine: Közgazdasági és társadalomtudományi kisenciklopédia (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50800" y="1828800"/>
            <a:ext cx="5435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kisenciklopédia 135 szócikkben veszi sorra ábécérendben a legfontosabb közgazdaságtudományi, gazdasági, szociológiai, antropológiai, politikatudományi, jogi, politológiai, médiakutatási, munkatudományi stb. elméleti és gyakorlati fogalomkészletet sokféle megközelítésben, a legmodernebb szakirodalomra támaszkodv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magyar kiadás számára külön szócikkek készültek az átalakulásról, az Európai Unióról, valamint a nemzetközi tényezők áramlása kérdéseirő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A kép jelenleg nem érhető el."/>
          <p:cNvPicPr/>
          <p:nvPr/>
        </p:nvPicPr>
        <p:blipFill>
          <a:blip r:embed="rId1"/>
          <a:stretch/>
        </p:blipFill>
        <p:spPr>
          <a:xfrm>
            <a:off x="457200" y="2133720"/>
            <a:ext cx="2247840" cy="28191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72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21. századi enciklopédia</a:t>
            </a:r>
            <a:br>
              <a:rPr sz="3600"/>
            </a:b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iklopédikus összefoglaló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95520" y="1828800"/>
            <a:ext cx="619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604960" cy="3886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743200" cy="403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390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3. The New Palgrave Dictionary of Economics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Macmillan Kiadó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a századfordulótól vezető terméke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4648320"/>
            <a:ext cx="6019560" cy="137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ttp://www.dictionaryofeconomics.com/dictio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57520" y="472680"/>
            <a:ext cx="602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ine kiadá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98640" y="1905120"/>
            <a:ext cx="5888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http://www.dictionaryofeconomics.com/resources/about_onl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Demo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http://www.dictionaryofeconomics.com/articles_az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2579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99ff66"/>
                </a:solidFill>
                <a:latin typeface="Times New Roman"/>
              </a:rPr>
              <a:t>4. Concise Encyclopedia of Economics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http://www.econlib.org/library/CEE.htm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7600" y="47268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5. Handwörterbuch der Wirtschaftswissenschaft (HdWW)</a:t>
            </a:r>
            <a:br>
              <a:rPr sz="3200"/>
            </a:b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1-10. köt</a:t>
            </a:r>
            <a:r>
              <a:rPr b="1" lang="hu-HU" sz="2000" spc="-1" strike="noStrike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(Fischer Verla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943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6. Gabler Wirtschaftslexikon online </a:t>
            </a:r>
            <a:br>
              <a:rPr sz="3200"/>
            </a:br>
            <a:r>
              <a:rPr b="1" lang="hu-HU" sz="3200" spc="-1" strike="noStrike">
                <a:solidFill>
                  <a:srgbClr val="99ff66"/>
                </a:solidFill>
                <a:latin typeface="Times New Roman"/>
              </a:rPr>
              <a:t>demo: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ttp://wirtschaftslexikon.gabler.de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487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7400" y="5638680"/>
            <a:ext cx="2819520" cy="398880"/>
          </a:xfrm>
          <a:prstGeom prst="rect">
            <a:avLst/>
          </a:prstGeom>
          <a:solidFill>
            <a:srgbClr val="fff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Nyomtatott 8 köt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Times New Roman"/>
              </a:rPr>
              <a:t>6. Szakszótárak </a:t>
            </a:r>
            <a:br>
              <a:rPr sz="4000"/>
            </a:br>
            <a:r>
              <a:rPr b="1" lang="en-US" sz="4000" spc="-1" strike="noStrike">
                <a:solidFill>
                  <a:srgbClr val="99ff66"/>
                </a:solidFill>
                <a:latin typeface="Times New Roman"/>
              </a:rPr>
              <a:t>– EISZ – on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ngol−magyar pénzügyi szótár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urópai uniós terminológiai szótár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angol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urópai uniós terminológiai szótár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német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urópai uniós terminológiai szótár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francia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pos Anna Magdolna</cp:lastModifiedBy>
  <dcterms:modified xsi:type="dcterms:W3CDTF">2013-02-11T15:4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